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5D1-90EE-403E-8C4D-B20E0897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85C-9955-4CD2-A4F4-DFDE2B5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EB2-E2C7-4897-A3E2-4A92E459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719-45F4-431F-B361-6690D408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61D-1BBF-4FD5-A5BA-1ABAD5F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7ED-2970-4895-A0F6-4F012FA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5AA-E050-44B3-B799-495EF99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235-5E19-483C-A23E-1DED7C8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5FF-D318-4876-921D-5F2FA105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DA6-800B-4C66-B8D0-5ACB538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D18-8D36-4CEA-AC99-B60B371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644-1BD7-4DE3-9C66-331A352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F4B-9EE9-497D-939E-8379F3B7C2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Harrington"/>
                <a:ea typeface="Calibri"/>
              </a:rPr>
              <a:t>VABILO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bava, smeh in razveseljevanje bližnjih v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jo življenjsko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Življenje je lovljenje ravnotežja med odgovornostmi, delom, p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itkom in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Vse ima svoje mesto v velikem zemljevidu življenja. Zato se je treba nagraditi s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som za zabavo.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Ta te napolni z energijo, ki jo potrebuješ, da se sr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a lahko obnavlja.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Zato te prisr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no vabim, da se poveseliš z mano - ob mojem prihajajo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em 40. rojstnem dnevu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ne 23. oktobra 2014 ob 14.10 minut.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Se dobimo na parkiriš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č</a:t>
            </a:r>
            <a:r>
              <a:rPr b="0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u za osnovnošolsko šolo in skupaj odidemo v neznano.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 </a:t>
            </a: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Harrington"/>
                <a:ea typeface="Calibri"/>
              </a:rPr>
              <a:t>Melita Žlajp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elita</cp:lastModifiedBy>
  <dcterms:modified xsi:type="dcterms:W3CDTF">2014-10-13T09:35:48Z</dcterms:modified>
  <cp:revision>27</cp:revision>
  <dc:subject/>
  <dc:title>TITLE</dc:title>
</cp:coreProperties>
</file>